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7.jpeg" ContentType="image/jpeg"/>
  <Override PartName="/ppt/media/image20.png" ContentType="image/png"/>
  <Override PartName="/ppt/media/image1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2A19-DCDB-45A0-BF6A-1F677563D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2BC5-446A-4922-93FA-87B4AF758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7FF4-D3F1-4E12-AD99-69AB4A94F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5ED1-50B3-403F-B104-055E30041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5375-E96D-454C-A392-AE9C1C040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4A86-A109-4EC1-8790-29B8B1695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CD18-0D29-487B-8977-2C098D1C0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DA5F-35CF-4233-859A-E93C8AF05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8691-EF59-45C9-B3DD-D286F88F0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D40A-90DD-4284-8ED1-0F85443F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B8F1-0397-4B76-9F4B-1F5AD8E6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2490-B6F7-4564-9582-A588015B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FD13D-5414-4CD5-80D3-6678F0891C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20.pn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1187280" y="981000"/>
            <a:ext cx="626616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1187280" y="1052640"/>
            <a:ext cx="6869160" cy="51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3"/>
          <a:stretch/>
        </p:blipFill>
        <p:spPr>
          <a:xfrm>
            <a:off x="657360" y="1800360"/>
            <a:ext cx="7829280" cy="3257280"/>
          </a:xfrm>
          <a:prstGeom prst="rect">
            <a:avLst/>
          </a:prstGeom>
          <a:ln w="0">
            <a:noFill/>
          </a:ln>
        </p:spPr>
      </p:pic>
      <p:sp>
        <p:nvSpPr>
          <p:cNvPr id="99" name="عنوان 1"/>
          <p:cNvSpPr/>
          <p:nvPr/>
        </p:nvSpPr>
        <p:spPr>
          <a:xfrm>
            <a:off x="900000" y="2979720"/>
            <a:ext cx="439272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سرعات في مسيرها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عنوان 1"/>
          <p:cNvSpPr/>
          <p:nvPr/>
        </p:nvSpPr>
        <p:spPr>
          <a:xfrm>
            <a:off x="900000" y="4059360"/>
            <a:ext cx="439272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لائكة أرسلت بالمعروف 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عنوان 1"/>
          <p:cNvSpPr/>
          <p:nvPr/>
        </p:nvSpPr>
        <p:spPr>
          <a:xfrm>
            <a:off x="900000" y="3500280"/>
            <a:ext cx="4392720" cy="6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لائكة تنزع أرواح الكفا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104" name="عنوان 1"/>
          <p:cNvSpPr/>
          <p:nvPr/>
        </p:nvSpPr>
        <p:spPr>
          <a:xfrm>
            <a:off x="250920" y="1873080"/>
            <a:ext cx="860112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خفض الجناح كناية عن المبالغة في التواضع و الخضوع قولا و فعلا مأخوذ من خفض فرخ الطائر جناحه ليستعطف أمه لتغذيته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3"/>
          <a:stretch/>
        </p:blipFill>
        <p:spPr>
          <a:xfrm>
            <a:off x="0" y="981000"/>
            <a:ext cx="9117000" cy="863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4"/>
          <a:stretch/>
        </p:blipFill>
        <p:spPr>
          <a:xfrm>
            <a:off x="108000" y="2681280"/>
            <a:ext cx="8867880" cy="819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5"/>
          <a:stretch/>
        </p:blipFill>
        <p:spPr>
          <a:xfrm>
            <a:off x="-15840" y="4375080"/>
            <a:ext cx="8867880" cy="709560"/>
          </a:xfrm>
          <a:prstGeom prst="rect">
            <a:avLst/>
          </a:prstGeom>
          <a:ln w="0">
            <a:noFill/>
          </a:ln>
        </p:spPr>
      </p:pic>
      <p:sp>
        <p:nvSpPr>
          <p:cNvPr id="108" name="عنوان 1"/>
          <p:cNvSpPr/>
          <p:nvPr/>
        </p:nvSpPr>
        <p:spPr>
          <a:xfrm>
            <a:off x="324000" y="3500280"/>
            <a:ext cx="859932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مر الله بأداء الأمانة سواء العبادات أو الواجبات أو ما أتمنك عليه الناس على أصحابه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عنوان 1"/>
          <p:cNvSpPr/>
          <p:nvPr/>
        </p:nvSpPr>
        <p:spPr>
          <a:xfrm>
            <a:off x="250920" y="5286240"/>
            <a:ext cx="86011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تكَلَّم وأنت معرض تكبراً ولا تمش خُيَلَاء مُتَكَبِّرًا جَبَّارًا عَنِيدًا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3"/>
          <a:stretch/>
        </p:blipFill>
        <p:spPr>
          <a:xfrm>
            <a:off x="4570560" y="1052640"/>
            <a:ext cx="4317840" cy="936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4"/>
          <a:stretch/>
        </p:blipFill>
        <p:spPr>
          <a:xfrm>
            <a:off x="6342120" y="3357720"/>
            <a:ext cx="2387520" cy="502920"/>
          </a:xfrm>
          <a:prstGeom prst="rect">
            <a:avLst/>
          </a:prstGeom>
          <a:ln w="0">
            <a:noFill/>
          </a:ln>
        </p:spPr>
      </p:pic>
      <p:sp>
        <p:nvSpPr>
          <p:cNvPr id="114" name="عنوان 1"/>
          <p:cNvSpPr/>
          <p:nvPr/>
        </p:nvSpPr>
        <p:spPr>
          <a:xfrm>
            <a:off x="250920" y="2189160"/>
            <a:ext cx="860112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زبد : الذي هو الخبث الذي يظهر فوق الم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جفاء : الغلظة وقسوة القلب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عنوان 1"/>
          <p:cNvSpPr/>
          <p:nvPr/>
        </p:nvSpPr>
        <p:spPr>
          <a:xfrm>
            <a:off x="250920" y="3989520"/>
            <a:ext cx="860112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باساً : ساترا لكم بظلامه كاللباس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عاشاً : تحصلون فيه ما تعيشون ب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118" name="عنوان 1"/>
          <p:cNvSpPr/>
          <p:nvPr/>
        </p:nvSpPr>
        <p:spPr>
          <a:xfrm>
            <a:off x="250920" y="2708280"/>
            <a:ext cx="864216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خاصم الزبير رجلا من الأنصار في شريج من الحرة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فقال النبي صلى الله عليه وسلم اسق يا زبير ثم أرسل الماء إلى جارك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فقال الأنصاري يا رسول الله أن كان ابن عمتك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فتلون وجه رسول الله صلى الله عليه وسلم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ثم قال اسق يا زبير ثم احبس الماء حتى يرجع إلى الجدر ثم أرسل الماء إلى جارك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واستوعى النبي صلى الله عليه وسلم للزبير حقه في صريح الحكم حين أحفظه الأنصاري كان أشار عليهما بأمر لهما فيه سعة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قال الزبير فما أحسب هذه الآيات إلا نزلت في ذلك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3"/>
          <a:stretch/>
        </p:blipFill>
        <p:spPr>
          <a:xfrm>
            <a:off x="331920" y="981000"/>
            <a:ext cx="86072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"/>
          <p:cNvPicPr/>
          <p:nvPr/>
        </p:nvPicPr>
        <p:blipFill>
          <a:blip r:embed="rId3"/>
          <a:stretch/>
        </p:blipFill>
        <p:spPr>
          <a:xfrm>
            <a:off x="331920" y="1000080"/>
            <a:ext cx="8561160" cy="5742000"/>
          </a:xfrm>
          <a:prstGeom prst="rect">
            <a:avLst/>
          </a:prstGeom>
          <a:ln w="0">
            <a:noFill/>
          </a:ln>
        </p:spPr>
      </p:pic>
      <p:sp>
        <p:nvSpPr>
          <p:cNvPr id="123" name="عنوان 1"/>
          <p:cNvSpPr/>
          <p:nvPr/>
        </p:nvSpPr>
        <p:spPr>
          <a:xfrm>
            <a:off x="4611600" y="2970360"/>
            <a:ext cx="420840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اختلف أهل التأويل في تأويل قوله : ( </a:t>
            </a:r>
            <a:r>
              <a:rPr b="0" lang="ar-SA" sz="2000" spc="-1" strike="noStrike" u="sng">
                <a:solidFill>
                  <a:srgbClr val="0000ff"/>
                </a:solidFill>
                <a:uFillTx/>
                <a:latin typeface="Calibri"/>
                <a:cs typeface="Times New Roman"/>
                <a:hlinkClick r:id="rId4" action="ppaction://hlinksldjump"/>
              </a:rPr>
              <a:t>جعل الليل والنهار </a:t>
            </a:r>
            <a:r>
              <a:rPr b="0" lang="ar-SA" sz="2000" spc="-1" strike="noStrike" u="sng">
                <a:solidFill>
                  <a:srgbClr val="0000ff"/>
                </a:solidFill>
                <a:uFillTx/>
                <a:latin typeface="Calibri"/>
                <a:cs typeface="Times New Roman"/>
                <a:hlinkClick r:id="rId5" action="ppaction://hlinksldjump"/>
              </a:rPr>
              <a:t>خلفة</a:t>
            </a:r>
            <a:r>
              <a:rPr b="0" lang="ar-SA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6" action="ppaction://hlinksldjump"/>
              </a:rPr>
              <a:t> </a:t>
            </a: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) فقال بعضهم : معناه : أن الله جعل كل واحد منهما خلفا من الآخر ، في أن ما فات أحدهما من عمل يعمل فيه لله ، أدرك قضاؤه في الآخر . </a:t>
            </a:r>
            <a:br>
              <a:rPr sz="2000"/>
            </a:br>
            <a:r>
              <a:rPr b="1" lang="ar-SA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وقوله ( </a:t>
            </a:r>
            <a:r>
              <a:rPr b="0" lang="ar-SA" sz="2000" spc="-1" strike="noStrike" u="sng">
                <a:solidFill>
                  <a:srgbClr val="0000ff"/>
                </a:solidFill>
                <a:uFillTx/>
                <a:latin typeface="Calibri"/>
                <a:cs typeface="Times New Roman"/>
                <a:hlinkClick r:id="rId7" action="ppaction://hlinksldjump"/>
              </a:rPr>
              <a:t>لمن أراد أن يذكر </a:t>
            </a: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) يقول تعالى ذكره : جعل الليل والنهار ، وخلوف كل واحد منهما الآخر حجة وآية لمن أراد أن يذكر أمر الله ، فينيب إلى الحق ( </a:t>
            </a:r>
            <a:r>
              <a:rPr b="0" lang="ar-SA" sz="2000" spc="-1" strike="noStrike" u="sng">
                <a:solidFill>
                  <a:srgbClr val="0000ff"/>
                </a:solidFill>
                <a:uFillTx/>
                <a:latin typeface="Calibri"/>
                <a:cs typeface="Times New Roman"/>
                <a:hlinkClick r:id="rId8" action="ppaction://hlinksldjump"/>
              </a:rPr>
              <a:t>أو أراد شكورا </a:t>
            </a: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) أو أراد شكر نعمة الله التي أنعمها عليه في اختلاف الليل والنهار 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عنوان 1"/>
          <p:cNvSpPr/>
          <p:nvPr/>
        </p:nvSpPr>
        <p:spPr>
          <a:xfrm>
            <a:off x="363600" y="2924280"/>
            <a:ext cx="420840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يَخْلُف كُلّ وَاحِد مِنْهُمَا صَاحِبه يَتَعَاقَبَانِ لَا يَفْتُرَانِ إِذَا ذَهَبَ هَذَا جَاءَ هَذَا وَإِذَا جَاءَ هَذَا ذَهَبَ ذَاكَ كَمَا قَالَ تَعَالَى" وَسَخَّرَ لَكُمْ الشَّمْس وَالْقَمَر دَائِبَيْنِ " الْآيَة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وَقَوْله تَعَالَى " لِمَنْ أَرَادَ أَنْ يَذَّكَّرَ أَوْ أَرَادَ شُكُورًا " أَيْ جَعَلَهُمَا يَتَعَاقَبَانِ تَوْقِيتًا لِعِبَادَةِ عِبَاده لَهُ عَزَّ وَجَلَّ فَمَنْ فَاتَهُ عَمَل فِي اللَّيْل اِسْتَدْرَكَهُ فِي النَّهَار وَمَنْ فَاتَهُ عَمَل فِي النَّهَار اِسْتَدْرَكَهُ فِي اللَّيْل وَقَدْ جَاءَ فِي الْحَدِيث الصَّحِيح " إِنَّ اللَّه عَزَّ وَجَلَّ يَبْسُط يَده بِاللَّيْلِ لِيَتُوبَ مُسِيء النَّهَار وَيَبْسُط يَده بِالنَّهَارِ لِيَتُوبَ مُسِيء اللَّيْل 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sp>
        <p:nvSpPr>
          <p:cNvPr id="126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6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1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"/>
          <p:cNvPicPr/>
          <p:nvPr/>
        </p:nvPicPr>
        <p:blipFill>
          <a:blip r:embed="rId3"/>
          <a:stretch/>
        </p:blipFill>
        <p:spPr>
          <a:xfrm>
            <a:off x="324000" y="1557360"/>
            <a:ext cx="86328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90600" y="399960"/>
            <a:ext cx="836280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692280"/>
            <a:ext cx="9175680" cy="1266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241200" y="2206800"/>
            <a:ext cx="8659800" cy="41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كتبة التفسير وعلوم القرآ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هم برنامج خدم مجال التفسير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(مكتبة التفسير وعلوم القرآن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50920" y="2060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مجلداته الحاسوبية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(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125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50920" y="2565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وضوعات برنامج (مكتبة التفسير وعلوم القرآن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رابط مستقيم 17"/>
          <p:cNvSpPr/>
          <p:nvPr/>
        </p:nvSpPr>
        <p:spPr>
          <a:xfrm flipH="1">
            <a:off x="4571640" y="2924280"/>
            <a:ext cx="324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رابط مستقيم 18"/>
          <p:cNvSpPr/>
          <p:nvPr/>
        </p:nvSpPr>
        <p:spPr>
          <a:xfrm flipH="1">
            <a:off x="4566960" y="318276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" name="رابط كسهم مستقيم 19"/>
          <p:cNvCxnSpPr/>
          <p:nvPr/>
        </p:nvCxnSpPr>
        <p:spPr>
          <a:xfrm flipH="1">
            <a:off x="8456040" y="3789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" name="عنوان 1"/>
          <p:cNvSpPr/>
          <p:nvPr/>
        </p:nvSpPr>
        <p:spPr>
          <a:xfrm>
            <a:off x="250920" y="3645000"/>
            <a:ext cx="82087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كتب أحكام القرآ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31"/>
          <p:cNvSpPr/>
          <p:nvPr/>
        </p:nvSpPr>
        <p:spPr>
          <a:xfrm>
            <a:off x="8820000" y="3174840"/>
            <a:ext cx="0" cy="201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32"/>
          <p:cNvCxnSpPr/>
          <p:nvPr/>
        </p:nvCxnSpPr>
        <p:spPr>
          <a:xfrm flipH="1">
            <a:off x="8456040" y="349992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324000" y="3306600"/>
            <a:ext cx="81356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كتب التفسي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رابط كسهم مستقيم 35"/>
          <p:cNvCxnSpPr/>
          <p:nvPr/>
        </p:nvCxnSpPr>
        <p:spPr>
          <a:xfrm flipH="1">
            <a:off x="8456040" y="41796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" name="عنوان 1"/>
          <p:cNvSpPr/>
          <p:nvPr/>
        </p:nvSpPr>
        <p:spPr>
          <a:xfrm>
            <a:off x="250920" y="4005360"/>
            <a:ext cx="8208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كتب غريب القرآ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رابط كسهم مستقيم 37"/>
          <p:cNvCxnSpPr/>
          <p:nvPr/>
        </p:nvCxnSpPr>
        <p:spPr>
          <a:xfrm flipH="1">
            <a:off x="8456040" y="4516560"/>
            <a:ext cx="361080" cy="3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" name="عنوان 1"/>
          <p:cNvSpPr/>
          <p:nvPr/>
        </p:nvSpPr>
        <p:spPr>
          <a:xfrm>
            <a:off x="250920" y="4365720"/>
            <a:ext cx="82087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كتب علوم القرآ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رابط كسهم مستقيم 39"/>
          <p:cNvCxnSpPr/>
          <p:nvPr/>
        </p:nvCxnSpPr>
        <p:spPr>
          <a:xfrm flipH="1">
            <a:off x="8458920" y="485784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عنوان 1"/>
          <p:cNvSpPr/>
          <p:nvPr/>
        </p:nvSpPr>
        <p:spPr>
          <a:xfrm>
            <a:off x="255600" y="4681440"/>
            <a:ext cx="82090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كتب علم القراءات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3" name="رابط كسهم مستقيم 41"/>
          <p:cNvCxnSpPr/>
          <p:nvPr/>
        </p:nvCxnSpPr>
        <p:spPr>
          <a:xfrm flipH="1">
            <a:off x="8458920" y="519444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4" name="عنوان 1"/>
          <p:cNvSpPr/>
          <p:nvPr/>
        </p:nvSpPr>
        <p:spPr>
          <a:xfrm>
            <a:off x="255600" y="5041800"/>
            <a:ext cx="82090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كتب إعراب القرآ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يفية البحث في مكتبة التفسير وعلوم القرآن الحاسوب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sp>
        <p:nvSpPr>
          <p:cNvPr id="67" name="عنوان 1"/>
          <p:cNvSpPr/>
          <p:nvPr/>
        </p:nvSpPr>
        <p:spPr>
          <a:xfrm>
            <a:off x="179280" y="156672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ولاً : يمكن البحث من خلال إحدى الوسائل التالية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رابط مستقيم 35"/>
          <p:cNvSpPr/>
          <p:nvPr/>
        </p:nvSpPr>
        <p:spPr>
          <a:xfrm flipH="1">
            <a:off x="4571640" y="1916280"/>
            <a:ext cx="324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رابط مستقيم 36"/>
          <p:cNvSpPr/>
          <p:nvPr/>
        </p:nvSpPr>
        <p:spPr>
          <a:xfrm flipH="1">
            <a:off x="4566960" y="217476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0" name="رابط كسهم مستقيم 37"/>
          <p:cNvCxnSpPr/>
          <p:nvPr/>
        </p:nvCxnSpPr>
        <p:spPr>
          <a:xfrm flipH="1">
            <a:off x="8456040" y="2781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عنوان 1"/>
          <p:cNvSpPr/>
          <p:nvPr/>
        </p:nvSpPr>
        <p:spPr>
          <a:xfrm>
            <a:off x="250920" y="2637000"/>
            <a:ext cx="82087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إدخال نص من عدة مفردات قرآنية متتالية يراد معرفة تفسيرها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رابط مستقيم 39"/>
          <p:cNvSpPr/>
          <p:nvPr/>
        </p:nvSpPr>
        <p:spPr>
          <a:xfrm>
            <a:off x="8820000" y="2166840"/>
            <a:ext cx="0" cy="1015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رابط كسهم مستقيم 40"/>
          <p:cNvCxnSpPr/>
          <p:nvPr/>
        </p:nvCxnSpPr>
        <p:spPr>
          <a:xfrm flipH="1">
            <a:off x="8456040" y="249192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4" name="عنوان 1"/>
          <p:cNvSpPr/>
          <p:nvPr/>
        </p:nvSpPr>
        <p:spPr>
          <a:xfrm>
            <a:off x="324000" y="2298600"/>
            <a:ext cx="81356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إدخال كلمة من مفردات ألفاظ القرآن يراد معرفة تفسيرها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5" name="رابط كسهم مستقيم 42"/>
          <p:cNvCxnSpPr/>
          <p:nvPr/>
        </p:nvCxnSpPr>
        <p:spPr>
          <a:xfrm flipH="1">
            <a:off x="8456040" y="3171960"/>
            <a:ext cx="361080" cy="3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6" name="عنوان 1"/>
          <p:cNvSpPr/>
          <p:nvPr/>
        </p:nvSpPr>
        <p:spPr>
          <a:xfrm>
            <a:off x="250920" y="2997360"/>
            <a:ext cx="8208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إدخال عدة مفردات متباعدة مرتبطة بالواو أو بـ (أو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250920" y="3438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 على إدخال كلمة من مفردات ألفاظ القرآن يراد معرفة تفسيرها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كلمة (تبارك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179280" y="400536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 على إدخال نص من عدة مفردات قرآنية متتالية يراد معرفة تفسيرها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3092400" y="4454640"/>
            <a:ext cx="5727600" cy="487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179280" y="508464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 على إدخال عدة مفردات متباعدة مرتبطة بالواو أو بـ (أو)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(غثاءً وجفاءً وسباتاً ولباساً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كيفية البحث في مكتبة التفسير وعلوم القرآن الحاسوب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sp>
        <p:nvSpPr>
          <p:cNvPr id="83" name="عنوان 1"/>
          <p:cNvSpPr/>
          <p:nvPr/>
        </p:nvSpPr>
        <p:spPr>
          <a:xfrm>
            <a:off x="179280" y="156672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ثانياً : يمكن البحث في كل المجلدات المتاحة أو تحديد نطاق معين كتفسير ابن كثير فقط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عنوان 1"/>
          <p:cNvSpPr/>
          <p:nvPr/>
        </p:nvSpPr>
        <p:spPr>
          <a:xfrm>
            <a:off x="179280" y="2133720"/>
            <a:ext cx="8769600" cy="4204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ثالثاً : يمكن المقارنة بين كتابين من كتب التفسير في تفسير آية معين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عنوان 1"/>
          <p:cNvSpPr/>
          <p:nvPr/>
        </p:nvSpPr>
        <p:spPr>
          <a:xfrm>
            <a:off x="250920" y="2708280"/>
            <a:ext cx="8665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 ملاحظة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إمكانية طباعة النص ونسخه في كل ما سب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2"/>
          <a:stretch/>
        </p:blipFill>
        <p:spPr>
          <a:xfrm>
            <a:off x="1042920" y="1052640"/>
            <a:ext cx="7408800" cy="56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1476360" y="981000"/>
            <a:ext cx="636588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1332000" y="1125360"/>
            <a:ext cx="5949720" cy="53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HI</cp:lastModifiedBy>
  <dcterms:modified xsi:type="dcterms:W3CDTF">2011-07-11T11:04:51Z</dcterms:modified>
  <cp:revision>0</cp:revision>
  <dc:subject/>
  <dc:title/>
</cp:coreProperties>
</file>